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55E-0806-4378-A71F-E266B8E7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483-A054-43DA-81AA-5AE66203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393-39BB-4920-BAC2-4FE5378C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0D4-3AE8-4ED8-A4C8-5EB30EDE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2B6-5EA7-4710-A172-9693E36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864-DB2E-4939-8AF4-62B9292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E59-7BF1-4EF1-946A-16CF2E84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E91-0771-41BA-A506-5BECB6A5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2AE-C5C1-4CB9-BB46-E559729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4DC-904D-46E8-B47A-31E48E6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2D4-4702-46F9-A7B7-38A3E5B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493-B1C3-4BD9-BD12-8B93518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EE9-B749-4FEA-9747-A04FC4F3A80A}" type="slidenum">
              <a:rPr b="0" lang="en-US" sz="14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lay Based Lear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868640"/>
            <a:ext cx="259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Created &amp; Presented by: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Katrina Baker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Early Years Team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Teaching Learning &amp; Standards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2822400"/>
            <a:ext cx="10989000" cy="403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3456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What is Pla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Play is the medium by which children learn about their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environment through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explor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manipul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trial &amp; error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improvisa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acting out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Types of Pla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125360"/>
          <a:ext cx="8280360" cy="4178520"/>
        </p:xfrm>
        <a:graphic>
          <a:graphicData uri="http://schemas.openxmlformats.org/drawingml/2006/table">
            <a:tbl>
              <a:tblPr/>
              <a:tblGrid>
                <a:gridCol w="1800000"/>
                <a:gridCol w="1727280"/>
                <a:gridCol w="1944720"/>
                <a:gridCol w="1512720"/>
                <a:gridCol w="129564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ensory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through sens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Exploratory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fin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ou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anipulative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touch/feel/handle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ould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Dramatic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ole-taking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eten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reative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earning by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reating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scented/coloured play-dough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scented/coloured water-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extured/colouredsand 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ook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5fe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ixing colour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hades/dark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elationships  between shap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patial relatio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numbers &amp;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tter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iz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cff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Blocks,lego, duplo,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Brush block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per-fold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utting/past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hysical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a4f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etending to be  people animals/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transport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acting out 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ituatio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role-play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ee8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drawing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inti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collag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rinti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torie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song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music &amp; sound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00"/>
                          </a:solidFill>
                          <a:latin typeface="Century Gothic"/>
                        </a:rPr>
                        <a:t>patterns</a:t>
                      </a:r>
                      <a:endParaRPr b="0" lang="en-US" sz="14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edd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ges of 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In the early years, children go through the stages of :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Passive on looke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Solitary player - plays by her/himself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Parallel play - plays </a:t>
            </a:r>
            <a:r>
              <a:rPr b="1" i="1" lang="en-US" sz="1800" spc="-1" strike="noStrike">
                <a:solidFill>
                  <a:srgbClr val="336600"/>
                </a:solidFill>
                <a:latin typeface="Century Gothic"/>
              </a:rPr>
              <a:t>beside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another playe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Associative play - play in a group with similar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resources, but no shared goal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or rol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* Cooperative play  - team play with specific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                 goals and roles with shared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                                                                  </a:t>
            </a:r>
            <a:r>
              <a:rPr b="1" lang="en-US" sz="1800" spc="-1" strike="noStrike">
                <a:solidFill>
                  <a:srgbClr val="336600"/>
                </a:solidFill>
                <a:latin typeface="Century Gothic"/>
              </a:rPr>
              <a:t>input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Characteristics of Pla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Children’s play is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pontaneou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-directed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-regulated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based on individual learning style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self absorbing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Play Based Learning is: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child-centred – the needs; interests; abilities of the students;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learning styles are reflected in the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program; setting up of the environment,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with a wide variety of resources for select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and choice making, enabling each to lear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in their own way achieving the outcomes,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as well as, their own unique milestone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student/peer initiated – they take the lead and choos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 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what/how/with what will they play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    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*  teacher guided/supported/scaffolded: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above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- hands off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500" spc="-1" strike="noStrike">
                <a:solidFill>
                  <a:srgbClr val="336600"/>
                </a:solidFill>
                <a:latin typeface="Century Gothic"/>
              </a:rPr>
              <a:t>	</a:t>
            </a:r>
            <a:endParaRPr b="0" lang="en-US" sz="5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Play Based Learning is important because it: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is developmentally appropriate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is inclusive of all stages of development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*   is supported by evidence based practice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and brain research that inform the need for, and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the nature of learning opportunities for children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to develop attitudes, skills and understandings 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Century Gothic"/>
              </a:rPr>
              <a:t>            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3:17:40Z</dcterms:created>
  <dc:creator>Katrina Baker</dc:creator>
  <dc:description/>
  <dc:language>en-US</dc:language>
  <cp:lastModifiedBy>DEET</cp:lastModifiedBy>
  <dcterms:modified xsi:type="dcterms:W3CDTF">2009-06-01T09:03:49Z</dcterms:modified>
  <cp:revision>55</cp:revision>
  <dc:subject/>
  <dc:title>Slide 1</dc:title>
</cp:coreProperties>
</file>